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79B1-05C5-4FB3-A2A1-8B3E6D021081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Tässä tutkija on tietokirjansa kanssa tarjoamassa tietoa päätöksenteon tueksi (information push) – sisällä on päättäjä, jolla on tiedon kysyntäimu (information need p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0D7F-1958-4F9E-BD69-991AA008A30E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http://fi.opasnet.org/fi/Luettelo_Opasnetiss%C3%A4_toteutettavista_hankke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E03A-98CD-4259-81B9-0A674D1B0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F40-49FF-42B6-B4B4-B7A63D44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BFE-2F1E-4C07-BA5C-88974D69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7D7-2D10-4E17-8FC8-8F442C89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B08-7256-4AAA-B89B-DB746A82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84C3-270E-4CEB-B813-A377E237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AFC5-EC07-4B76-9010-E373F11C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654E-EA0E-42D5-A0FD-130DCC9F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CA65-1181-4683-BACA-7ED9F906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D319-A439-4652-8988-E46D500C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41A6-5AF1-4180-92EF-3301C8C6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81B2-FE82-4552-A595-78B23C73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9E8-C0DD-43B1-A6B5-4FCB9588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8C0B-D02E-401C-A8B9-BBFF761C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FBE5-CB64-425D-8179-29D21E69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07E8-8BFF-42FE-BEFA-AB199AE5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EDC3-CE78-4E09-BDD2-A51C4896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72AE-67F3-4E14-9295-BAEEF198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DA126-0490-4BDB-9CD3-1635EAA5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F2587-0308-41A0-BCB5-A7B90133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DF614-191D-482B-A1D2-9CA18986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3085-2EF2-44EA-A866-A6798FB2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3E1AA-1699-4393-9711-71D2E6D4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1B6A-6928-4048-9EBE-E85BF637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5CD1C-239C-4F80-82FD-4E20BE3C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46B36-3C17-47AA-8594-7D30CEB9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56422-7622-49D8-AB5C-869A251E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DDD0F-E9E6-42C2-BAB8-B146F9FB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34C8B-7107-444D-AAA8-11A51BC5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2AFFA-F05E-4FC9-B89C-3D650FD8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8ACE2-31D1-4B99-9241-E9795F5C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819-92BB-4C49-A3AE-279BB965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72A-F87D-4EC8-B76B-B3618B38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2E6C-31F1-4564-B44C-9878A5FD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06B-17D2-4BD6-9E16-AD4E2A5D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091-F151-41A3-A8AF-2CFCD7F6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D7A-588F-4E86-827A-0283465F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HL_helmi_BIG_rgb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http://fi.opasnet.org/fi/APT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C752-EF3A-4E94-825A-B4BF43D983EA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Freeform 10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THL_helmi_BIG_rgb"/>
          <p:cNvPicPr/>
          <p:nvPr/>
        </p:nvPicPr>
        <p:blipFill>
          <a:blip r:embed="rId2"/>
          <a:stretch/>
        </p:blipFill>
        <p:spPr>
          <a:xfrm>
            <a:off x="2532240" y="56844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9"/>
          <p:cNvGrpSpPr/>
          <p:nvPr/>
        </p:nvGrpSpPr>
        <p:grpSpPr>
          <a:xfrm>
            <a:off x="1906560" y="3949560"/>
            <a:ext cx="5330880" cy="200160"/>
            <a:chOff x="1906560" y="3949560"/>
            <a:chExt cx="5330880" cy="200160"/>
          </a:xfrm>
        </p:grpSpPr>
        <p:sp>
          <p:nvSpPr>
            <p:cNvPr id="49" name="Freeform 10"/>
            <p:cNvSpPr/>
            <p:nvPr/>
          </p:nvSpPr>
          <p:spPr>
            <a:xfrm>
              <a:off x="4043520" y="3949560"/>
              <a:ext cx="3193920" cy="20016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1906560" y="3951360"/>
              <a:ext cx="2017800" cy="19692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http://fi.opasnet.org/fi/APT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C602-FF79-4C69-9F85-9BEC5FA0EBCF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HL_helmi_BIG_rgb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95" name="Freeform 10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1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imes New Roman"/>
              </a:rPr>
              <a:t>http://fi.opasnet.org/fi/APT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CECF-30B6-40F2-ADCB-924F079B9DD6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rn.fi/URN:NBN:fi-fe2014031821621" TargetMode="External"/><Relationship Id="rId2" Type="http://schemas.openxmlformats.org/officeDocument/2006/relationships/hyperlink" Target="http://fi.opasnet.org/fi/APTK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.opasnet.org/fi/Toiminnot:Luokat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Avoin päätöksentekokäytäntö toimintamallina</a:t>
            </a: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68360" y="5661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Jouni Tuomis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THL, Ympäristöterveyden osas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simerkki: pneumokokkirokote-hankinnan avoin valmistelu 2014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TM ja THL määrittelevät päätöksen rajauksen sekä terveys-, kustannus- ja muut tavoitte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uvataan yhteenveto taudista ja rokotteista sekä alustavat vaikuttavuuden laskentamall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voin julkinen keskustelu vaikuttavuuden kriteereistä, parametreista ja arvioinnista yleensä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HL jäsentää keskustelun ja vetää tiedot yhteen APTK:n periaatteiden mukaises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voimen työskentelyn pohjalta kriteerit päätetään ja rokote kilpailuteta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http://fi.opasnet.org/fi/APT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691D-4313-4A2A-9EA8-852DE66DCD6D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tä pitäisi tehdä toisin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6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tkijat/asiantuntij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ärkeä tieto julki heti eikä vasta kun artikkeli on julkais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Ei-asiantuntijoidenkin näkemyksiä on lähtökohtaisesti pidettävä mahdollisesti tosina ja siksi tärkeinä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äättäjä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odelliset tavoitteet julk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utkijat päästettävä miettimään päätöskysymyksiä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dosryhmä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Osallistuminen </a:t>
            </a:r>
            <a:r>
              <a:rPr b="1" lang="fi-FI" sz="2200" spc="-1" strike="noStrike">
                <a:solidFill>
                  <a:srgbClr val="000000"/>
                </a:solidFill>
                <a:latin typeface="Arial"/>
              </a:rPr>
              <a:t>yhteiseen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 työskentelyy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ik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Enemmän yhteistä keskustel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avoitteeksi toisen ymmärtäminen ja auttamin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200" spc="-1" strike="noStrike">
                <a:solidFill>
                  <a:srgbClr val="000000"/>
                </a:solidFill>
                <a:latin typeface="Arial"/>
              </a:rPr>
              <a:t>Järjestelmällinen kulttuurin muuttamin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http://fi.opasnet.org/fi/APT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2AA8-909D-4F24-8268-01B72E830629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ksei tutkimustieto palvele päätöksentekoa niin kuin halutaan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684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49" name="Footer Placeholder 3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http://fi.opasnet.org/fi/APT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38C3-3AFA-444D-B470-AF31CAB428DA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1270080" y="1281240"/>
            <a:ext cx="589428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utkimuskysymyks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2720" indent="-3427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Avoin arviointi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62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ten jäsennetään tieteellistä tietoa ja arvoarvostelmia yhteiskunnallisen päätöksenteon tueksi siten, että avoin osallistuminen on mahdollis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Avoin päätöksentekokäytäntö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62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ten rakennetaan jaettua ymmärrystä päätösprosessin eri vaiheissa siten, että tarvittavat toimenpiteet tulevat tehokkaasti toteutetuiksi ja vaikutukset todennetuiks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(Jaettu ymmärrys = osapuolet ymmärtävät, mitä näkemyksiä asiasta on, mistä ollaan erimielisiä ja miksi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http://fi.opasnet.org/fi/APT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43F6-4A03-4C62-A164-BB6BF694DDE1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Huomio päätöksentekoon kokonaisuuten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24720" indent="-3247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rkasteltava yhtä aikaa asiantuntijoiden, päättäjien ja sidosryhmien </a:t>
            </a: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toimintaa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720" indent="-3247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rkasteltava </a:t>
            </a: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koko prosessia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päätösvalmistelusta toimenpiteisiin ja vaikutusten seuranta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720" indent="-3247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rkasteltava erityisesti </a:t>
            </a: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tiedon roolia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, tiedon jalostamista ja tiedon virtaamista (tai sen esteitä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720" indent="-3247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720" indent="-3247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omisto, Pohjola, Pohjola (2014): Avoin päätöksentekokäytäntö voisi parantaa tiedon hyödyntämistä. Yhteiskuntapolitiikka 79: 1: 66-75. </a:t>
            </a:r>
            <a:r>
              <a:rPr b="0" lang="fi-FI" sz="2400" spc="-1" strike="noStrike" u="sng">
                <a:solidFill>
                  <a:srgbClr val="c1df63"/>
                </a:solidFill>
                <a:uFillTx/>
                <a:latin typeface="Arial"/>
                <a:hlinkClick r:id="rId1"/>
              </a:rPr>
              <a:t>http://urn.fi/URN:NBN:fi-fe2014031821621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720" indent="-3247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 u="sng">
                <a:solidFill>
                  <a:srgbClr val="c1df63"/>
                </a:solidFill>
                <a:uFillTx/>
                <a:latin typeface="Arial"/>
                <a:hlinkClick r:id="rId2"/>
              </a:rPr>
              <a:t>http://fi.opasnet.org/fi/APTK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http://fi.opasnet.org/fi/APT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8CFF-1065-4F91-AB39-5D290D2C95C8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men päätöksentekokäytännön keskeinen 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hjeita tavoitteenasettelu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hjeita toteutukseen (vaikutusten arviointii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hjeita työn seurantaan ja ohjauks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stä tiedetään, että tulos on hyvä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uomio tiedon yhteenvetämisen tait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yökaluja tämän toteuttamis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http://fi.opasnet.org/fi/APT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0745-BC24-4F85-8894-94A30647A002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päätöksentekokäytäntö: periaatte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Tavoitteellisuus: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päättäjät määrittelevät julkisesti päätöksen rajauksen ja tavoitteet, joihin toimintaa peilata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Kohteellisuus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yön kohteena on verkkotyötilassa tehtävä vaikutusarviointi, johon tuotetaan suositukset ja perustel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Syysuhteiden kuvaus: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arviointi tarkastelee syyketjua päätösvaihtoehdoista vaikutuksiin ja tavoiteltuihin arvoih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Uusiokäyttö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kaikki tieto jäsennetään mahdollisimman helposti käytettäväksi uusiin tarkoituksi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Kritiikki: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Kaikkea työn sisältöä saa kritisoida joka vaiheessa. Kritiikin murtamat osat hylätää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Avoimuus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: Kuka tahansa saa osallistua. Kaikki tieto jaetaan heti netissä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http://fi.opasnet.org/fi/APT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CB19-62F6-49CF-A104-27A5F8188225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yötä varten verkkotyötila Opasn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Nettisivusto, jossa voi tehdä kaiken päätösvalmistelutyö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http://fi.opasnet.org/fi/APT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9231-E721-4259-A8E7-8146C7909525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7000" y="1170000"/>
            <a:ext cx="829008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-hankkei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74" name="Rectangle 1">
            <a:hlinkClick r:id="rId1"/>
          </p:cNvPr>
          <p:cNvSpPr/>
          <p:nvPr/>
        </p:nvSpPr>
        <p:spPr>
          <a:xfrm>
            <a:off x="3906720" y="128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5560" y="1049400"/>
            <a:ext cx="91440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päätöksentekokäytän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6840" y="1484280"/>
            <a:ext cx="8218440" cy="4392720"/>
          </a:xfrm>
          <a:prstGeom prst="rect">
            <a:avLst/>
          </a:prstGeom>
          <a:ln w="0">
            <a:noFill/>
          </a:ln>
        </p:spPr>
      </p:pic>
      <p:sp>
        <p:nvSpPr>
          <p:cNvPr id="179" name="Footer Placeholder 3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http://fi.opasnet.org/fi/APT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6A4E-7DF6-4B3F-8ADA-D7B4F5831F30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588960" y="-11160"/>
            <a:ext cx="858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08:09:33Z</dcterms:created>
  <dc:creator>Kansanterveyslaitos</dc:creator>
  <dc:description/>
  <dc:language>en-US</dc:language>
  <cp:lastModifiedBy>Tuomisto Jouni</cp:lastModifiedBy>
  <dcterms:modified xsi:type="dcterms:W3CDTF">2014-06-05T05:22:58Z</dcterms:modified>
  <cp:revision>43</cp:revision>
  <dc:subject/>
  <dc:title>Dioksiinien terveyshaitat – erityistapaus kala</dc:title>
</cp:coreProperties>
</file>